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A61-4F7D-4A0E-9092-60924EF4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E34-6B47-4DCA-8FD9-F6172C5D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C45-1CF4-44A2-A107-E91E7BFC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8F1-F164-4187-A0A8-11CC306A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EFC8-EAA6-4ABD-9171-E18F50A3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002-6FAE-4E1B-BD37-6859A7B7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0B5A-2861-451A-B031-4CB1B076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D005-696E-4007-AFA7-21475B77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815F-4118-4E7E-BFE0-CE300D00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BC64-F6EF-495A-AEE8-A0E1223B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BEC8-E8CE-4E37-A7E1-0ED212C0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18F-9862-447B-837A-EFC9DA06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F412-42BB-4BC1-A219-AF93C854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F118-D436-4888-AC11-45DEF401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91F6-4C45-4303-B9DF-E29CEB42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D385-EFCC-4D14-B127-5A88419A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4EDD-5256-4859-9C1E-6BABC747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427E-7E58-4079-8CE8-D6A241A7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2FED-CAC6-46C1-9DF2-063CB97E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9305A-B65B-4456-89FD-C84E3AD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AE75-4A17-4071-894E-2E58CEE4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1EB04-89FA-49F8-A87F-70DD7F4B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332-8182-42FC-BD45-D75F86DC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6DEC8-D4E8-4439-BD16-39CAC330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C40E-D718-479E-BB0A-30837F18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4A5F5-DD36-438B-963B-D8DF6A42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8483-458A-41AE-84B5-F0944F3A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25994-2B49-42A2-86DC-3A9DBE4E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680CE-356D-4030-87DB-13174780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C819-A3C7-45E9-A0C8-2E0D0A63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516F7-6C74-4D10-8924-2A29706A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11FC-1B8C-49C4-9F60-230EB99F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9690C-92B1-4FF0-BBAE-041D546D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4CA-20E3-43BA-A889-BB526553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BE276-6A68-4A19-B7D8-1B50384F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7EF25-5F50-40A0-8B52-5035C96F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E8827-563F-44D1-8CAD-8A8828F0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7997-2CAE-4C51-870E-D91EAA9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F782-438D-4571-9E9A-40BB8371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0ADE1-3CEE-45EF-B4C0-FD3A59E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5481E-4EAA-4573-8D4B-6DF18177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91B9-9D36-441D-B3BA-59915252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C4AE-6295-4991-A437-F6393414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7B2-9FC5-4F2D-8B0D-8E95DB72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AB5-A061-4ED6-BF0F-E50DFDD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6975-5DA3-4A6B-AE7C-670AF1B4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56D-7CB7-451F-8103-3659858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3598-55D8-4AC8-9A29-ECC2B6B1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24CEF-086A-418E-98CB-DC6BB6F6BE98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28"/>
            <p:cNvSpPr/>
            <p:nvPr/>
          </p:nvSpPr>
          <p:spPr>
            <a:xfrm>
              <a:off x="0" y="-720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3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3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3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AABA8-4140-46F7-81E6-616995EFD6FC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52D0D-0CF9-40E0-AD8C-745A105DA40A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55C39-DB90-463F-A1A0-843A7755B3AE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30480" y="2404800"/>
            <a:ext cx="44434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Non objective a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1109520" y="255600"/>
            <a:ext cx="37213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225000"/>
            <a:ext cx="85964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1274760"/>
            <a:ext cx="859644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rebuchet MS"/>
              </a:rPr>
              <a:t>The only subject is Art and how it is ma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The meaning is to create an experience triggered by the designs and the colours, that may stimulat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Your imagin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Creativit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Memor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Emo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Give you Energ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Etc.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How is this Good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rebuchet MS"/>
              </a:rPr>
              <a:t>Helps us understand the purpose of Ar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rebuchet MS"/>
              </a:rPr>
              <a:t>Helps us understand how to make better Ar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Helps us understand what people like/dislike about Ar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rebuchet MS"/>
              </a:rPr>
              <a:t>Inspiration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y do we look at art?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6997680" y="1109520"/>
            <a:ext cx="3325680" cy="3605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3822840" y="2287440"/>
            <a:ext cx="2655720" cy="3670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184320" y="2517840"/>
            <a:ext cx="31194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y do we look a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Trebuchet MS"/>
              </a:rPr>
              <a:t>What it makes us think about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rebuchet MS"/>
              </a:rPr>
              <a:t>What it reminds us of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rebuchet MS"/>
              </a:rPr>
              <a:t>How it makes us feel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makes art Good or Ba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makes art Good or Ba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Content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 – What the Art is abou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Form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 – How the Art is made or experienced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esign – Use of space and balance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Use of the elements – Line, Shape, Texture, Value, Shading, Contras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makes art Good or Ba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43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Content</a:t>
            </a: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– What the Art is abou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rebuchet MS"/>
              </a:rPr>
              <a:t>Not everyone likes the same th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rebuchet MS"/>
              </a:rPr>
              <a:t>Some may like pictures of flowers for example and some won’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rebuchet MS"/>
              </a:rPr>
              <a:t>The art could be very well made and still only be liked by a few because of the content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174261"/>
                </a:solidFill>
                <a:latin typeface="Trebuchet MS"/>
              </a:rPr>
              <a:t>Specific subject= limited audienc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makes art Good or Ba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Trebuchet MS"/>
              </a:rPr>
              <a:t>Form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 – How the Art is made or experienced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Design – Use of space and balance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Use of the elements – Line, Shape, Texture, Value, Shading, Contrast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1930320"/>
            <a:ext cx="859644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rebuchet MS"/>
              </a:rPr>
              <a:t>What does ‘Abstract’ mean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rebuchet MS"/>
              </a:rPr>
              <a:t>To summarize, simplify, reduce to most basic part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What is Abstract Art?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rebuchet MS"/>
              </a:rPr>
              <a:t>To summarize, simplify, reduce to most basic part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Trebuchet MS"/>
              </a:rPr>
              <a:t>Content (why it exists)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The experience of Ar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rt itself is the subjec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it makes us feel and think abou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Use of colour etc. for effect – Memory, emotion, energy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rebuchet MS"/>
              </a:rPr>
              <a:t>Form  (How it is made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Basic elements of art – Line, shape, texture, etc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Any materia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11:59:26Z</dcterms:created>
  <dc:creator>Lowe, Chris (ASD-S)</dc:creator>
  <dc:description/>
  <dc:language>en-US</dc:language>
  <cp:lastModifiedBy>Lowe, Chris (ASD-S)</cp:lastModifiedBy>
  <dcterms:modified xsi:type="dcterms:W3CDTF">2015-04-27T17:44:01Z</dcterms:modified>
  <cp:revision>16</cp:revision>
  <dc:subject/>
  <dc:title>Abstract Art</dc:title>
</cp:coreProperties>
</file>